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9E0-CBB4-4CC8-8793-9BC35446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0AE-DD78-4DF4-8A60-3DB2FB12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3DA-727E-451E-9591-C7A3647E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3EC-B772-480E-96CF-2F467612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954-463B-4E35-AF76-2F80A3AA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544-966C-453F-A406-BB5568E5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49F-7014-4891-BD05-2A59F950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248-7CCF-48BE-9334-18ED4A72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852-EF60-4E0A-A24C-FD8EB5BD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6DC-440D-400F-89B6-A4D07450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E5D-094C-4848-A486-64267810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579-2F91-4BE4-99E0-96AE03F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1044-89E2-490A-8F2F-0055E7DFC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Baseline9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Baseline1.jpg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Baseline2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hildBaseline4.jpg"/>
          <p:cNvPicPr/>
          <p:nvPr/>
        </p:nvPicPr>
        <p:blipFill>
          <a:blip r:embed="rId2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Baseline5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Baseline6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Baseline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8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29:17Z</dcterms:created>
  <dc:creator>zcui</dc:creator>
  <dc:description/>
  <dc:language>en-US</dc:language>
  <cp:lastModifiedBy>rbalne</cp:lastModifiedBy>
  <dcterms:modified xsi:type="dcterms:W3CDTF">2009-08-12T13:57:11Z</dcterms:modified>
  <cp:revision>2</cp:revision>
  <dc:subject/>
  <dc:title>Slide 1</dc:title>
</cp:coreProperties>
</file>